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1F1-0E24-47FA-8CAE-F2CE595E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198-5650-4EA1-8E4E-25F634B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F74-D7AA-4D8E-87E6-C91AF29D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1EF-B431-4E8A-AAA1-362DCBC1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1E2-4FCE-4DE0-B789-60612587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67A-FC11-4591-842F-F70038F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704-51E0-4F53-8CC6-4CA8AC6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BB7-5C43-49D4-94A3-3CC5193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A74-187A-4693-A1CF-73E0E541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A3F-C95D-4095-93B6-90B2287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C0F-F80D-4C38-A4B5-F61F9DED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C23-6CF1-41C2-ACBC-394C64C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8E43-4EA0-4C0B-8622-0EBC87BD20E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 Vzdávaj česť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covi zeme i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úctou a v pokor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nne mu odovzdaj s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ho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tvoj nebeský Kráľ, pamätá, ver, aj na t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elý vesmír sám riad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kom láska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aj na teba hľ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oho sa t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ať v ňom ochrancu smieš, on vždy ti len dobre r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sláv meno jeho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celý živo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 Všemohúceh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vetla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iteľ, Záchranca tvoj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i sa len na neho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3-10-22T08:51:29Z</dcterms:modified>
  <cp:revision>10</cp:revision>
  <dc:subject/>
  <dc:title>Je veľký náš Pán, on slávy je Kráľ Nech do všetkých strán  spev vrúcnych znie chvál.</dc:title>
</cp:coreProperties>
</file>